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5779-1D55-47D9-A2BC-B33ADDE4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D912-0C8D-43FC-A0B9-8BD92A14D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13E5-04C2-4F9A-93DA-A2518DF7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149-65EE-4B13-BA05-4D021E952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F38B-D7A7-4C21-B616-B0C8D01A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6B25-FBDF-40AC-8956-FF9A1DAD7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       Slide </a:t>
            </a:r>
            <a:fld id="{595901B6-0B31-4E8B-BAC8-04E9BD455E4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9E09786-93FB-4CD8-A776-6541D94A25D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F9DB204-44A4-45CF-AF2D-7FF77902ACF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5BBD478-103E-4C9C-9087-9EA41E1B3520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FE84405-048D-4325-9351-AF677B9AD68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120695C-7727-4474-9698-33E324F292E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942F0FF0-ADF6-459D-BB52-EF0F63D3B870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4955F63-7F54-4699-8CB0-E8856B9E0E4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2: Desktop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ha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90720" y="160020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made shapes and a variety of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select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ocument, click mouse and drag across and down to create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llustrations group on 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5944275-C78D-4E0A-822A-99845746D77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5856120" y="1579680"/>
            <a:ext cx="29019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Sha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eatures on Drawing Tools Format tab to format sh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, color, border thickness, and fill color of a shape can be 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can be added and ed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001EFF1-9C50-45DE-B568-FD37A406B39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82560" y="2709720"/>
            <a:ext cx="8199360" cy="109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2"/>
          <a:stretch/>
        </p:blipFill>
        <p:spPr>
          <a:xfrm>
            <a:off x="7151760" y="4863960"/>
            <a:ext cx="15271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p 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made drawings and photograp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clude sounds and video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not to violate copyright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results are                         displayed as                                thumb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insert into                               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AB72005-6AF7-4C03-94A4-70129B2377B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5356080" y="3824280"/>
            <a:ext cx="2316240" cy="2744640"/>
          </a:xfrm>
          <a:prstGeom prst="rect">
            <a:avLst/>
          </a:prstGeom>
          <a:ln w="0">
            <a:noFill/>
          </a:ln>
          <a:effectLst>
            <a:outerShdw dist="152225" dir="2700000" blurRad="0" rotWithShape="0">
              <a:srgbClr val="8f80ba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Clip 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icture or clip art to see Picture Tools Forma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 crop, and position using options in the Size and Arran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using options in the Adjust and Picture Style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F2B23A8-FB53-478A-A1B4-DF68D7B1829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347760" y="2700360"/>
            <a:ext cx="85201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0:31:47Z</dcterms:created>
  <dc:creator>Jean Bissell</dc:creator>
  <dc:description>Copyright 2006 South-Western/Thomson</dc:description>
  <dc:language>en-US</dc:language>
  <cp:lastModifiedBy>Lenessa Keehn</cp:lastModifiedBy>
  <dcterms:modified xsi:type="dcterms:W3CDTF">2011-10-11T17:04:20Z</dcterms:modified>
  <cp:revision>28</cp:revision>
  <dc:subject/>
  <dc:title>Slide 1</dc:title>
</cp:coreProperties>
</file>